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7E38-2F3A-4D9F-919C-5F09D2FB2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2BCF-B259-4894-A2BF-576AA07CC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501D-264B-4B84-9CCA-0F48BBDAA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4157-9DFA-4D96-B289-4B133F5D9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2DD0-28C6-4606-914F-6234F5DF5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ED9C-9F17-4F20-BDDA-F0F236BDA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656A-9670-4C92-8043-745ED6418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3139-D22A-400C-8499-738F2F873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20DF-1ED6-471F-9545-387F565BB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8643-340F-46BC-A33C-DBE404476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47C4-AF93-41C0-A474-6B7F6DEA1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EFEB-1257-4E49-BE81-4C2FB5BE7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8C39-9473-48D8-8746-F828E937F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5F98-1B45-472B-84C5-D88503E05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82E3-3965-450D-A567-EC1296658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19A6-36E9-4A8A-AE96-8F90A07A8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64F7-7C8F-4230-9E69-FDB68D3E4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E457-CF5C-4693-B78C-2EA09192D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E86E-B155-4534-BB98-CD99B18DC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22E3-3389-4CD1-AB72-C76C02070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886C-9CEF-4317-965F-625034687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AA74-8498-43A1-AE63-8E33880CF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2DF5-A081-49AA-9F2E-A82F0B4D3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AA49-F0D9-4DEF-863C-BA2956775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D60E-967C-484A-A8FE-C98771CC9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DFCC-9858-414C-A50D-75DD7A4D8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8B67-AAA7-44E9-9BC8-4931FB9FA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71F3-7F96-4B4F-9222-19676CB52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FC9A-BB0F-4382-97A7-7D16AA218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BA7E-6915-4A03-84E1-ACD64E2F2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CD37-4149-4035-BB5A-AAD0030A0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45A7-1932-4CFA-9C8F-47465D72F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588F-8685-44CF-A3C7-EE1CA56D2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A26B-AFA4-4EC5-8A3D-446F0A280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052B-BE09-4237-B143-92ECF2CA9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A797-C10C-47D8-9647-09EE25D12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48EA-B8B2-4674-B3D2-6CF41746F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FE53-D80A-42A2-9410-D0C31C044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D54C-4EDC-4741-BCB5-32FB93736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3B27-E927-48F2-9619-1284E58B4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E6DA-0179-42E1-A91D-124E98238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06BA-9CC7-4CF8-BCBD-8C6E724CB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D97-6BEC-42DB-AC3A-A7B6CB98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1F7F-F0DB-4A2F-B396-41A1F19E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509-D0A0-4ED3-986C-AC824605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BCD-9BED-4759-AC52-52890DD7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9269-7825-49F9-84E3-987589AB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8AA0-E96D-42EF-B046-721507D1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217A-8AB4-429E-B619-69E121C5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C61-64AF-4B22-827C-2B65B9F2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74D-992E-4ED6-AB78-96013936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363-DEA6-414F-9F33-48077164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97D-982D-439B-A2C9-6604E437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7C6A-CAC4-4EAF-AC01-0157D4BC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33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83B8-1842-46FF-8805-ED9F3C797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066680" y="1219320"/>
            <a:ext cx="70866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olecu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nd Cell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&amp;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evelopmental a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rganismal Bi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2280" y="568440"/>
            <a:ext cx="86108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are examples of structures with modern eukaryotic cells that developed from early prokaryo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cu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s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lgi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2280" y="568440"/>
            <a:ext cx="86108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erm is used to describe all the chemical reactions that are necessary to sustain life in an organis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-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52280" y="568440"/>
            <a:ext cx="86108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statements about cells is corr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ells divide by binary f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living organisms are eukary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living organisms are multicell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rganisms begin life as a singl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-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52280" y="568440"/>
            <a:ext cx="86108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are found in the cell membrane and allow cells to communicate with one an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plasmic ret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s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-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52280" y="568440"/>
            <a:ext cx="86108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true of prokary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ave organelles surrounded by membr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ppeared on Earth before eukary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ppeared on Earth after eukary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ave a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-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52280" y="568440"/>
            <a:ext cx="86108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by which living organisms maintain a relatively internal environment despite changes in the external environment is called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ost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8534520" y="838080"/>
            <a:ext cx="5331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-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-76320" y="0"/>
            <a:ext cx="86108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the graphs, at what temperature &amp; pH would enzyme A be most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 C and pH 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 and pH 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 and pH 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and pH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Enzyme-activity-temperature-graph"/>
          <p:cNvPicPr/>
          <p:nvPr/>
        </p:nvPicPr>
        <p:blipFill>
          <a:blip r:embed="rId1"/>
          <a:stretch/>
        </p:blipFill>
        <p:spPr>
          <a:xfrm>
            <a:off x="0" y="3740040"/>
            <a:ext cx="5181480" cy="304164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9"/>
          <p:cNvGrpSpPr/>
          <p:nvPr/>
        </p:nvGrpSpPr>
        <p:grpSpPr>
          <a:xfrm>
            <a:off x="5943600" y="4038480"/>
            <a:ext cx="2514240" cy="2742840"/>
            <a:chOff x="5943600" y="4038480"/>
            <a:chExt cx="2514240" cy="2742840"/>
          </a:xfrm>
        </p:grpSpPr>
        <p:pic>
          <p:nvPicPr>
            <p:cNvPr id="81" name="Picture 7" descr="ln04b"/>
            <p:cNvPicPr/>
            <p:nvPr/>
          </p:nvPicPr>
          <p:blipFill>
            <a:blip r:embed="rId2"/>
            <a:srcRect l="0" t="0" r="47076" b="0"/>
            <a:stretch/>
          </p:blipFill>
          <p:spPr>
            <a:xfrm>
              <a:off x="5943600" y="4038480"/>
              <a:ext cx="2514240" cy="25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WordArt 8"/>
            <p:cNvSpPr txBox="1"/>
            <p:nvPr/>
          </p:nvSpPr>
          <p:spPr>
            <a:xfrm>
              <a:off x="7007040" y="6402960"/>
              <a:ext cx="483840" cy="37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3" name="Text Box 10"/>
          <p:cNvSpPr/>
          <p:nvPr/>
        </p:nvSpPr>
        <p:spPr>
          <a:xfrm>
            <a:off x="2590920" y="356544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 rate of enzym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-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76320"/>
            <a:ext cx="86104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following would be most likely to increase the amount of the substance produced by the action of enzyme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temperature to 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 temperature to 5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crease the amount of 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 the amount of subs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nzyme-activity-temperature-graph"/>
          <p:cNvPicPr/>
          <p:nvPr/>
        </p:nvPicPr>
        <p:blipFill>
          <a:blip r:embed="rId1"/>
          <a:stretch/>
        </p:blipFill>
        <p:spPr>
          <a:xfrm>
            <a:off x="0" y="3740040"/>
            <a:ext cx="5181480" cy="304164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9"/>
          <p:cNvGrpSpPr/>
          <p:nvPr/>
        </p:nvGrpSpPr>
        <p:grpSpPr>
          <a:xfrm>
            <a:off x="5943600" y="4038480"/>
            <a:ext cx="2514240" cy="2742840"/>
            <a:chOff x="5943600" y="4038480"/>
            <a:chExt cx="2514240" cy="2742840"/>
          </a:xfrm>
        </p:grpSpPr>
        <p:pic>
          <p:nvPicPr>
            <p:cNvPr id="88" name="Picture 7" descr="ln04b"/>
            <p:cNvPicPr/>
            <p:nvPr/>
          </p:nvPicPr>
          <p:blipFill>
            <a:blip r:embed="rId2"/>
            <a:srcRect l="0" t="0" r="47076" b="0"/>
            <a:stretch/>
          </p:blipFill>
          <p:spPr>
            <a:xfrm>
              <a:off x="5943600" y="4038480"/>
              <a:ext cx="2514240" cy="25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WordArt 8"/>
            <p:cNvSpPr txBox="1"/>
            <p:nvPr/>
          </p:nvSpPr>
          <p:spPr>
            <a:xfrm>
              <a:off x="7007040" y="6402960"/>
              <a:ext cx="483840" cy="37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52280" y="568440"/>
            <a:ext cx="86108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an incorrect statement about enzy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s are prote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s are cataly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 activity is unaffected by temperature and 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s reduce the activation energy of re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52280" y="568440"/>
            <a:ext cx="5486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 to the cell diagram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el 1 is pointing to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lgi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animal_cell4"/>
          <p:cNvPicPr/>
          <p:nvPr/>
        </p:nvPicPr>
        <p:blipFill>
          <a:blip r:embed="rId1"/>
          <a:stretch/>
        </p:blipFill>
        <p:spPr>
          <a:xfrm>
            <a:off x="4648320" y="14479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-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52280" y="568440"/>
            <a:ext cx="86108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feature do all living cells have in comm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52280" y="568440"/>
            <a:ext cx="54864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 to the cell diagram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el 5 is pointing to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gh endoplasmic ret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animal_cell4"/>
          <p:cNvPicPr/>
          <p:nvPr/>
        </p:nvPicPr>
        <p:blipFill>
          <a:blip r:embed="rId1"/>
          <a:stretch/>
        </p:blipFill>
        <p:spPr>
          <a:xfrm>
            <a:off x="4648320" y="14479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52280" y="568440"/>
            <a:ext cx="5486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 to the cell diagram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el 13 is pointing to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lgi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animal_cell4"/>
          <p:cNvPicPr/>
          <p:nvPr/>
        </p:nvPicPr>
        <p:blipFill>
          <a:blip r:embed="rId1"/>
          <a:stretch/>
        </p:blipFill>
        <p:spPr>
          <a:xfrm>
            <a:off x="4648320" y="14479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568440"/>
            <a:ext cx="5486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 to the cell diagram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el 3 is pointing to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lgi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nimal_cell4"/>
          <p:cNvPicPr/>
          <p:nvPr/>
        </p:nvPicPr>
        <p:blipFill>
          <a:blip r:embed="rId1"/>
          <a:stretch/>
        </p:blipFill>
        <p:spPr>
          <a:xfrm>
            <a:off x="4648320" y="14479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52280" y="568440"/>
            <a:ext cx="54864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 to the cell diagram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rganelle controls the activity of the cell and stores D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animal_cell4"/>
          <p:cNvPicPr/>
          <p:nvPr/>
        </p:nvPicPr>
        <p:blipFill>
          <a:blip r:embed="rId1"/>
          <a:stretch/>
        </p:blipFill>
        <p:spPr>
          <a:xfrm>
            <a:off x="4648320" y="14479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52280" y="568440"/>
            <a:ext cx="86108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an incorrect statement about enzy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s are prote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s are cataly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 activity is unaffected by temperature and 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s reduce the activation energy of re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28600" y="457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scribe the inner structure of mitochondria and explain how this structure influences mitochondrial fun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415px-Diagram_of_a_human_mitochondrion"/>
          <p:cNvPicPr/>
          <p:nvPr/>
        </p:nvPicPr>
        <p:blipFill>
          <a:blip r:embed="rId1"/>
          <a:stretch/>
        </p:blipFill>
        <p:spPr>
          <a:xfrm>
            <a:off x="2133720" y="3765600"/>
            <a:ext cx="47242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s often experience increased perspiration while exercising.  This is the body’s attempt to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burn more cal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increase heart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maintain stable body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excrete excess water from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52280" y="568440"/>
            <a:ext cx="86108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tiles must warm their bodies by absorbing heat from their surroundings.  Which would you expect to be tr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Reptiles live in harsh environ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Reptiles must eat consta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 Reptiles are very active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) Reptiles have a slow metabol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in temperature and acidity by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ing the shape of prote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ing the order of amino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ing the amount of subs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ing binding at the active 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ystem produces antibodies and white blood ce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c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-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52280" y="568440"/>
            <a:ext cx="861084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main difference between prokaryotes and eukaryo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karyotes can manufacture their own food whereas prokaryotes can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karyotes have a membrane-bound nucleus but prokaryotes do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karyotes have a cell wall but eukaryotes do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karyotes have organelles but eukaryotes do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following statements is NOT tr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contain a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 are the basic units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 come only from oth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living things are made of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ne marrow produces red blood cells, white blood cells and platelets.  Which of the following conditions is MOST likely to be a symptom of bone marrow dise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r l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f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ight 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ino acids are the building blocks of 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ic ac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hyd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LEAST likely to cross an animal cell membrane by simple diffu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tassium 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ystem produces antibodies and white blood ce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c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in an organism, nerve cells and muscle cells differ in both structure and function.  How is this poss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use different parts of the D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ntain different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ve different cell w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ntain different D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ganelle responsible for processing and packaging substances produced by the cell is the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cu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gi appar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plasmic ret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simplest to most complex, what is the correct order of organization in living t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, molecule, cell, tissue, organ, organ system,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, organ, tissue, molecule, organism, organ system,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ssue, organ, cell, organ system, atom, molecule,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, organ system, organism, tissue, cell, molecule, or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breathing, cells in the respiratory system communicate with muscle cells in the diaphragm.  This communication occurs by means of the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ous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estiv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crin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haracteristic of eukaryotic cells gives them a greater ability for specialization than prokaryotic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es are ol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es have membrane-bound organel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es reproduce more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es are heterotrophic anaero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-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52280" y="568440"/>
            <a:ext cx="861084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Eubacteria and Protista cells have flagella or cilia which allow these cells to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rodu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p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52280" y="1674720"/>
            <a:ext cx="8610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xplain what tissues, organs, &amp; systems are and how they relate to each o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80880" y="1521000"/>
            <a:ext cx="861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lain how cells in an individual can be different from each other even though they descended from a single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15884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cribe the cell theory. Include all three par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52280" y="568440"/>
            <a:ext cx="861084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of these correctly matches the class of macromolecules with its primary fun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bohydrates and genetic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pids and enzymatic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eins and energy sto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cleic acids and genetic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52280" y="568440"/>
            <a:ext cx="861084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eukaryotic cells on a microscope slide look very different.  Which statement about the two cells is corr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ells cannot be from the same organism and cannot contain mostly the same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ells can be from the same organism but cannot contain mostly the same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ells cannot be from the same organism but can contain mostly the same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ells can be from the same organism and can contain mostly the same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52280" y="568440"/>
            <a:ext cx="86108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element bonds to itself, forms chains, rings, and large complex molecu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8534520" y="7632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2280" y="568440"/>
            <a:ext cx="86108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true of lipi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po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tore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issolve easily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found only in animal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5:52:00Z</dcterms:created>
  <dc:creator>Kary M. Kahle</dc:creator>
  <dc:description/>
  <dc:language>en-US</dc:language>
  <cp:lastModifiedBy>Tracey Hayden</cp:lastModifiedBy>
  <dcterms:modified xsi:type="dcterms:W3CDTF">2009-04-19T16:09:56Z</dcterms:modified>
  <cp:revision>51</cp:revision>
  <dc:subject/>
  <dc:title>Slide 1</dc:title>
</cp:coreProperties>
</file>